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135-1D30-4C8B-AA25-D820A7F3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40FD-F3DE-4565-8724-BEB9A1ED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29E-A053-4C35-B11D-CA159B76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938-E4C0-4845-B1C4-16B195F1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FFA-AA19-4E24-AEE7-D59E6199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C5E-54E6-483E-91CC-0EF02843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6AD8-FA63-4902-B884-6ED9973F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424-C689-4B76-9B8A-1425146A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49B-12F2-45D3-9FBF-F3D9D7DF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0B7-DC96-42DA-A631-29B2CE55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0D3A-16D5-4D9A-AC14-3807AFB7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E8F-DCE9-441A-BDE3-9AF6F6DF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737B-9D72-41FD-93D3-E810F2BA1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35520" y="77760"/>
            <a:ext cx="51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76320" y="9831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que debemos examina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320" y="31258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David (II Samuel 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tp://jayhidalgo.com/wp-content/uploads/2014/03/man-looking-in-mirror.jpg"/>
          <p:cNvPicPr/>
          <p:nvPr/>
        </p:nvPicPr>
        <p:blipFill>
          <a:blip r:embed="rId1"/>
          <a:stretch/>
        </p:blipFill>
        <p:spPr>
          <a:xfrm>
            <a:off x="6210360" y="93600"/>
            <a:ext cx="285732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laytreasuresinheaven.com/wp-content/uploads/2013/01/david-and-bathsheba.jpg"/>
          <p:cNvPicPr/>
          <p:nvPr/>
        </p:nvPicPr>
        <p:blipFill>
          <a:blip r:embed="rId2"/>
          <a:stretch/>
        </p:blipFill>
        <p:spPr>
          <a:xfrm>
            <a:off x="1932120" y="3733920"/>
            <a:ext cx="507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52280" y="2213280"/>
            <a:ext cx="89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os demás nos deben, por ello los usamos sin vergüenza alguna (v.2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52280" y="32799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tar enderezar las cosas 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gar de hacer las cosas bien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2280" y="4348440"/>
            <a:ext cx="89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husarse a aceptar el hecho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ríamos estar ciegamente fue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voluntad de Dios (v.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52280" y="58622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a gente de algun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era es prescindible (v.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43000" y="11462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ejarse lentamente de aquellas disciplina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18252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vía demandamos de otros (v.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6320" y="115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nco abusos de poder comunes que los líderes de hoy enfren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ttp://www.australiancompetitionlaw.org/images/figures/mmp2.png"/>
          <p:cNvPicPr/>
          <p:nvPr/>
        </p:nvPicPr>
        <p:blipFill>
          <a:blip r:embed="rId1"/>
          <a:stretch/>
        </p:blipFill>
        <p:spPr>
          <a:xfrm>
            <a:off x="6629400" y="3094200"/>
            <a:ext cx="28195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158560" y="2376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prueba del 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5640" y="72576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a l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OC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2440" y="183204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primera persona con la que tengo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LEVAR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conmig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4080" y="3129480"/>
            <a:ext cx="57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primera persona que m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U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blemas soy y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24080" y="50191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MBI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228600" y="3052800"/>
            <a:ext cx="2606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370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La primera persona que pue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c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ER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y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23920" y="2182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DE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6715080" y="133200"/>
            <a:ext cx="2352600" cy="3295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23920" y="39625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 lo cual eres inexcusable, oh hombre, quienquiera que seas tú que juzgas; pues en lo que juzgas a otro, te condenas a ti mismo; porque tú que juzgas haces lo mismo.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omanos 2: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28600" y="1676520"/>
            <a:ext cx="92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 he examinado a mí mismo y tomado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abilidad por quién so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3520" y="1117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98360" y="71640"/>
            <a:ext cx="80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heridas hieren a los demá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8760" y="1653480"/>
            <a:ext cx="62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n muchas personas h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41360" y="240192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frecuentemente hier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4120" y="3560400"/>
            <a:ext cx="55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s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cuentemente heridas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880" y="509796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con frecuencia se h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í mis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ttp://cache3.asset-cache.net/xc/463153367.jpg?v=2&amp;c=IWSAsset&amp;k=2&amp;d=EsMnEt_SU23Ptf2qrsBoL1rIu72TXIcw2pKEE"/>
          <p:cNvPicPr/>
          <p:nvPr/>
        </p:nvPicPr>
        <p:blipFill>
          <a:blip r:embed="rId1"/>
          <a:srcRect l="17638" t="0" r="15118" b="0"/>
          <a:stretch/>
        </p:blipFill>
        <p:spPr>
          <a:xfrm>
            <a:off x="6172200" y="3187800"/>
            <a:ext cx="2408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0760" y="27360"/>
            <a:ext cx="901692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 Samuel 18:6-9, 12-16, 28-2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onteció que cuando volvían ellos, cuando David volvió de matar al filisteo, salieron las mujeres de todas las ciudades de Israel cantando y danzando, para recibir al rey Saúl, con panderos, con cánticos de alegría y con instrumentos de música. Y cantaban las mujeres que danzaban, y decían: Saúl hirió a sus miles, Y David a sus diez miles. Y se enojó Saúl en gran manera, y le desagradó este dicho, y dijo: A David dieron diez miles, y a mí miles; no le falta más que el reino. Y desde aquel día Saúl no miró con buenos ojos a David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2 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s Saúl estaba temeroso de David, por cuanto Jehová estaba con él, y se había apartado de Saúl; por lo cual Saúl lo alejó de sí, y le hizo jefe de mil; y salía y entraba delante del pueblo. Y David se conducía prudentemente en todos sus asuntos, y Jehová estaba con él. Y viendo Saúl que se portaba tan prudentemente, tenía temor de él. Mas todo Israel y Judá amaba a David, porque él salía y entraba delante de ello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8 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o Saúl, viendo y considerando que Jehová estaba con David, y que su hija Mical lo amaba, tuvo más temor de David; y fue Saúl enemigo de David todos los días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52280" y="-61200"/>
            <a:ext cx="8839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muel 18:6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inseguridad de Saúl y el miedo lo llevar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olverse en contra de David, por lo que perdió la perspectiva de lo que era mejor para el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e los síntomas de Saú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792600" y="3318840"/>
            <a:ext cx="519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nza, sospecha (v.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792600" y="4004640"/>
            <a:ext cx="470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nto de asesinato (v.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792600" y="4614480"/>
            <a:ext cx="23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edo (v.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92600" y="5300280"/>
            <a:ext cx="384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seguridad (v.15-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792600" y="5909760"/>
            <a:ext cx="41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piración (v.13,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04920" y="3508200"/>
            <a:ext cx="32256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539000" y="266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tando con personas dolid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4840" y="80892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 tomes personal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RT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3840" y="1710000"/>
            <a:ext cx="88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usque el problema más allá de la persona: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UITIV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760" y="3156840"/>
            <a:ext cx="89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a más allá de l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DERA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6320" y="38145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No les agregue a s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olor: Teng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ICIAT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92160" y="530388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yúdelos a encontra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yuda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RVI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ttp://psychcentral.com/blog/wp-content/uploads/2014/01/when-someone-depressed.jpg"/>
          <p:cNvPicPr/>
          <p:nvPr/>
        </p:nvPicPr>
        <p:blipFill>
          <a:blip r:embed="rId1"/>
          <a:srcRect l="9037" t="0" r="9576" b="0"/>
          <a:stretch/>
        </p:blipFill>
        <p:spPr>
          <a:xfrm>
            <a:off x="4800600" y="3886200"/>
            <a:ext cx="4199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4128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89200" y="2134800"/>
            <a:ext cx="63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sido herido por algui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3160" y="2885760"/>
            <a:ext cx="70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omprendo el dolor detrás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638720" y="3059280"/>
            <a:ext cx="729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Lección 2: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¿Estamos preparado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para las relacione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01800" y="96480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84120" y="230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480" y="6019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03760" y="2964240"/>
            <a:ext cx="89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4 Ejemplos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biblia que sin necesidad usaron “martillo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¡reaccionaron de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81280" y="500832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hermanos de José lo dejaron en un pozo para que muriese. (Génesis 38:20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tps://mps110.files.wordpress.com/2013/12/a-cure-for-whatever-ailes-me.jpg"/>
          <p:cNvPicPr/>
          <p:nvPr/>
        </p:nvPicPr>
        <p:blipFill>
          <a:blip r:embed="rId1"/>
          <a:stretch/>
        </p:blipFill>
        <p:spPr>
          <a:xfrm>
            <a:off x="6448320" y="22320"/>
            <a:ext cx="2608200" cy="294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tps://eriklindeen.files.wordpress.com/2014/10/joseph.jpg?w=300&amp;h=232"/>
          <p:cNvPicPr/>
          <p:nvPr/>
        </p:nvPicPr>
        <p:blipFill>
          <a:blip r:embed="rId2"/>
          <a:stretch/>
        </p:blipFill>
        <p:spPr>
          <a:xfrm>
            <a:off x="304920" y="450864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-49320" y="5508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David mandó a Urías al frente de la batalla a morir (II Samuel 11:14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114800" y="2822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Herodes ejecutó a los niños (Mateo 2:1-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" y="5173920"/>
            <a:ext cx="49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o ejecutó a un acusado inocente,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teo 27:11-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33210" t="0" r="1172" b="0"/>
          <a:stretch/>
        </p:blipFill>
        <p:spPr>
          <a:xfrm>
            <a:off x="6091200" y="130320"/>
            <a:ext cx="2870280" cy="245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ttp://photos1.blogger.com/x/blogger/4997/461/320/400647/soldiers.jpg"/>
          <p:cNvPicPr/>
          <p:nvPr/>
        </p:nvPicPr>
        <p:blipFill>
          <a:blip r:embed="rId2"/>
          <a:stretch/>
        </p:blipFill>
        <p:spPr>
          <a:xfrm>
            <a:off x="609480" y="1905120"/>
            <a:ext cx="3353040" cy="30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ttp://4.bp.blogspot.com/_NoaIBawRd-4/Sd5K6NDbkkI/AAAAAAAALFU/6sq8BDa_LaE/s400/jesus-pilate.jpg"/>
          <p:cNvPicPr/>
          <p:nvPr/>
        </p:nvPicPr>
        <p:blipFill>
          <a:blip r:embed="rId3"/>
          <a:srcRect l="0" t="576" r="0" b="33025"/>
          <a:stretch/>
        </p:blipFill>
        <p:spPr>
          <a:xfrm>
            <a:off x="5029200" y="4051440"/>
            <a:ext cx="3581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7600" y="737640"/>
            <a:ext cx="70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 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No llegue a conclusiones rápidamente, sino escuche para obtener una perspectiva más amp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352680" y="39668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EMPO OPORTU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uándo actuar podría ser tan importante como tomar la acción correc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11237" t="15936" r="13999" b="1437"/>
          <a:stretch/>
        </p:blipFill>
        <p:spPr>
          <a:xfrm>
            <a:off x="7086600" y="676440"/>
            <a:ext cx="1974960" cy="255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31756" t="0" r="1322" b="0"/>
          <a:stretch/>
        </p:blipFill>
        <p:spPr>
          <a:xfrm>
            <a:off x="147600" y="3505320"/>
            <a:ext cx="31878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7600" y="753480"/>
            <a:ext cx="56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La gente usualmente responde a nuestras actitudes más que a nuestras pala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73600" y="4579920"/>
            <a:ext cx="435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segúrese que el problema y la reacción se correspon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ttps://dailyproverbsdotnet.files.wordpress.com/2012/09/speak-softly.jpg"/>
          <p:cNvPicPr/>
          <p:nvPr/>
        </p:nvPicPr>
        <p:blipFill>
          <a:blip r:embed="rId1"/>
          <a:srcRect l="29835" t="0" r="306" b="0"/>
          <a:stretch/>
        </p:blipFill>
        <p:spPr>
          <a:xfrm>
            <a:off x="5486400" y="684360"/>
            <a:ext cx="2925720" cy="335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80880" y="3598920"/>
            <a:ext cx="3989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243440" y="10692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172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os demás en su organización que reacciona de 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53720" y="77400"/>
            <a:ext cx="62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3520" y="79884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91120" y="4805640"/>
            <a:ext cx="50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ás y el pueblo Nínive (Jonás 4:1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ttp://kool98.com/wp-content/blogs.dir/100/files/2014/05/ELEVATOR.jpg"/>
          <p:cNvPicPr/>
          <p:nvPr/>
        </p:nvPicPr>
        <p:blipFill>
          <a:blip r:embed="rId1"/>
          <a:stretch/>
        </p:blipFill>
        <p:spPr>
          <a:xfrm>
            <a:off x="6559560" y="152280"/>
            <a:ext cx="2489040" cy="249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6320" y="2819520"/>
            <a:ext cx="89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undo se muere por falta de apreciación; está hambriento por cumplidos, pero alguien debe empezar a rodar la pelota al hablar primer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2"/>
          <a:srcRect l="0" t="5189" r="0" b="4230"/>
          <a:stretch/>
        </p:blipFill>
        <p:spPr>
          <a:xfrm>
            <a:off x="770040" y="4389480"/>
            <a:ext cx="326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52280" y="35607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estra elección daña más personas de 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sabemos (v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4627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endurecemos e insensibilizamos a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gedias que causamos (v.5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52280" y="571644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demos tanto la integridad como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2680" y="2554560"/>
            <a:ext cx="85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perdemos el privilegi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sociarnos con Dios (v.1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2280" y="3600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ás nos enseña que las consecuencias de rehusarse a animar y servir a otros al estar consumido con las actividades personales de 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ttp://us.cdn2.123rf.com/168nwm/harunatsukobo/harunatsukobo1404/harunatsukobo140400017/28415864-businessm"/>
          <p:cNvPicPr/>
          <p:nvPr/>
        </p:nvPicPr>
        <p:blipFill>
          <a:blip r:embed="rId1"/>
          <a:stretch/>
        </p:blipFill>
        <p:spPr>
          <a:xfrm>
            <a:off x="6075360" y="20808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28280" y="2239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evando a otros a un nivel más 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52280" y="10602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líderes que levantan a otros se comprometen a d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ÁNI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ar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382840"/>
            <a:ext cx="51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reconocen la pequeña diferencia que separa herir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60640" y="4821120"/>
            <a:ext cx="551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comprenden que la vida no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SAY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en realidad sí impo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ttps://sapphirical.files.wordpress.com/2010/04/cartoon_bellhop.jpg"/>
          <p:cNvPicPr/>
          <p:nvPr/>
        </p:nvPicPr>
        <p:blipFill>
          <a:blip r:embed="rId1"/>
          <a:stretch/>
        </p:blipFill>
        <p:spPr>
          <a:xfrm>
            <a:off x="76320" y="2575080"/>
            <a:ext cx="35049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16160" y="125208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89160" y="2444040"/>
            <a:ext cx="70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as demás personas que usted las levanta o las derrum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6130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Quiénes somos determina cómo vemos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5280" y="1603440"/>
            <a:ext cx="88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La primera persona que debemos examinar es 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5520" y="2622960"/>
            <a:ext cx="89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Las personas heridas hieren a los demás y 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5280" y="3994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536616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280" y="47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Princi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28600" y="8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PREGUNTA DE LA PREPA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 preparado para las rel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7080" y="1910160"/>
            <a:ext cx="758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énes somos determina cómo vem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tp://4.bp.blogspot.com/-spHyGxVqSmM/UVl_nlZwsvI/AAAAAAAAHG8/_PdzTYU-cRY/s1600/set+your+mind+on+things+a"/>
          <p:cNvPicPr/>
          <p:nvPr/>
        </p:nvPicPr>
        <p:blipFill>
          <a:blip r:embed="rId1"/>
          <a:stretch/>
        </p:blipFill>
        <p:spPr>
          <a:xfrm>
            <a:off x="3962520" y="3171960"/>
            <a:ext cx="4914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28600" y="230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2680" y="843480"/>
            <a:ext cx="84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úese a sí mismo: ¿Es débil en cualquiera de estas cinco áreas de preparación? ¿Cuáles son sus áreas más fuertes y las más débi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04920" y="3133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7382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pués de haber repasado el área en la que más necesita crecer, escriba una o dos acciones que usted podría tomar para mejorar e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44520" y="336528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4520" y="129888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NZA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ré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280" y="265932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5360" y="45010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ADO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S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742000" y="2819520"/>
            <a:ext cx="3203640" cy="38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23920" y="7632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manera en que las personas ven a los demás es un reflejo de ellos mism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30000" y="7956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177920"/>
            <a:ext cx="304776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76320" y="1343160"/>
            <a:ext cx="8762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entras David y sus hombres s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paraban para cruzar la propieda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 Nabal, David mandó a algunos d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 hombres por adelante para que l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guntaran a Nabal si podría darle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|cualquier cosa, como comida, abrigo o bebida. Esta era una petición justa, ya que David era conocido como el protector de la tierra, el único que había vencido a Goliat y a los filisteos, y el que había sido ungido como futuro rey por Samuel. Sin embargo, Nabal se rehusó; a pesar de que era un hombre rico, se negó a darles algo y los insultó mientras los echó fuera. ¿Por qué trató de esta manera a alguien como David?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30000" y="19692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280" y="13827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falla de Nab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7160" y="204984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ó rico y satisfecho; pensaba que no necesitaba establecer relaciones (v.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96920" y="373536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 volvió egoísta y desconfiado de otros 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6920" y="4575240"/>
            <a:ext cx="88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No dio ni recibió ánimo; no reaccionaba a las buenas actitudes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35000" y="57182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Olvidó cómo otros lo habían bendecido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ado; sólo contaban las pérdidas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2952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262440" y="231480"/>
            <a:ext cx="781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. Menospreció a la gente y olvidó sus nomb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 inseguridad le impidió ser generoso (v.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65320" y="1527120"/>
            <a:ext cx="823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. No vio una razón por la cual ayudar a los dem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ría de motivos egocéntric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1000" y="2768400"/>
            <a:ext cx="83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. Estaba interesado en hacer su propio “reino”,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reino de Di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2743200" y="4006800"/>
            <a:ext cx="3722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14600" y="77760"/>
            <a:ext cx="35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éxito de Abig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8600" y="8064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iciativa ries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414440"/>
            <a:ext cx="51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guridad emo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" y="21002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umildad gen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277344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28600" y="380664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ctitud altr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93680" y="442188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spíritu gene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3680" y="5037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nfoque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3680" y="56404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Ingenio ag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9920" y="8064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Perspectiva e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575240" y="141444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Afirmación af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ttp://4.bp.blogspot.com/-3A5cdbGCM-k/U7Ts0uIrZrI/AAAAAAAAlZc/t2nlnvDPDGg/s1600/2.jpg"/>
          <p:cNvPicPr/>
          <p:nvPr/>
        </p:nvPicPr>
        <p:blipFill>
          <a:blip r:embed="rId1"/>
          <a:srcRect l="10001" t="0" r="3751" b="0"/>
          <a:stretch/>
        </p:blipFill>
        <p:spPr>
          <a:xfrm>
            <a:off x="4116240" y="2622600"/>
            <a:ext cx="48452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242360" y="1297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792800" y="2549160"/>
            <a:ext cx="71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una persona negativa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89920" y="3844440"/>
            <a:ext cx="63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uál es su percepción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3:26Z</dcterms:created>
  <dc:creator>montecyr@yahoo.com</dc:creator>
  <dc:description/>
  <dc:language>en-US</dc:language>
  <cp:lastModifiedBy>Monte Cyr</cp:lastModifiedBy>
  <dcterms:modified xsi:type="dcterms:W3CDTF">2021-02-19T21:21:45Z</dcterms:modified>
  <cp:revision>18</cp:revision>
  <dc:subject/>
  <dc:title>PowerPoint Presentation</dc:title>
</cp:coreProperties>
</file>